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F2D1-E907-47C6-BFCE-EA6A30E1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slides 23 through 26 with your participants so they know what options they can choose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project from an existing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eing Reas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oject (slide 23)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a new project from scratch (slides 24-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team IDs with the wizar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reate specialized team IDs (slide 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go more in-depth into these in a few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A5F9-1AE0-4823-BA72-4A3B11AFB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A67F8-FE16-4FD0-A9A7-1FDF2129E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0141-A2F1-4D78-9F9F-9E978F4A50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9D446-8A86-4647-9E40-FBDB47F635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0EF86-523D-40C7-82E4-B589225F9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17DC-D867-4872-8406-F560BD6B6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1B3C-104D-4AF1-83A5-269192019C1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078DF-941F-4BC2-946C-7B8292B360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6B00-F93E-458A-B9A6-980B272D63C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F2FB-ECC8-4551-9103-05951A7308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DCB41-A124-4E13-8E33-3C1E0CD9A1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4946-BAAC-45B3-B663-9AA762ED2D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17886-EE19-4791-AB10-B890CFD054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9C06-6E09-4369-AC67-10DF6E66E8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D36C2-41EC-4968-AEE4-28AA5A8307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AC4EA-5EE0-4B6A-A0B0-B0C78FC4281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143A-4E45-4495-BF0D-9B942A4E74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C965-988B-4096-978F-73B55B7642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4ADD6-B009-4CFA-A211-F4EDA4EDEE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CC2FE-4FDB-4B79-BEC8-F17D0C536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3112-74C4-4CEB-B5D6-ED9229C76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0A687-5315-4D04-AECD-9779C102C4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4B3CF-2308-4B7F-B67F-009723CEB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C77E-53FB-4863-993A-96BF9559A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A0DC-F100-4D6D-9025-11D6B16783F1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04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DFBB-4074-4AA7-9689-DB725FF0E7E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9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tting Up Expectations for an Argum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6–9.0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e parts of an argume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aim: What you are trying to prove or persuad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idence: Facts or data that support or oppose a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y of th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s the source reliable and credible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accurate is the evi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rength of the evidence to support or oppose the clai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soning for why the evidence supports or opposes the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3D41-95D2-4D41-B57E-D9B7BF4AB6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8: Using the Showing Evidence Tool to Target Thinking Skills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Reviewing a Sample Ca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9.09–9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Summary and Curriculum-Framing Ques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 sit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,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Case of the Mysterious Malad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s with a partn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25A0F-26C4-4E1B-850E-D088518ED8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Discussing Rating Rubric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1–9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valuation of Evidence Qualit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 page 9.1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would this rubric help students to better rate and evaluate evidenc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types of elements you would want to include in a rubric for your own subject are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valuation of the Evidence Strength on page 9.1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would this rubric help students build a better argument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is important about evidence that opposes a claim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611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at other criteria and qualifiers you would want to include for your own subject area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8EC5B-1072-4694-87EE-CE5B8E6EF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76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Determining Acceptable Eviden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 subject areas required different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idea of considering the intended audience when making an argu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the lowest acceptable number of sourc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uld all evidence be consider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 you expect direct quo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 you require a minimum number of quo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B55A-46D8-4002-B6EC-24F076C958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Evaluating the Clai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6–9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Evaluation of Claim rubri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bout poor quality evidence that strongly supports a clai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bout a lot of so-so suppor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ould you weigh quantity in comparison to quality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relate the process of a jury decision to the evaluation of a clai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uld you make any changes to the rubric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8496-7198-4622-892A-1668B7585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7: Making a Conclus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place where students can answer the case ques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other ways can the conclusion area be used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8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Benefits of the Showing Evidenc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4D89-4F52-4AEE-B226-E877CD817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Power of the Showing Evidenc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0–9.2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classified by Marzano’s Dimension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9AD2-4B1B-48CC-8D4D-1E9776A0B8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760" y="1523880"/>
            <a:ext cx="8237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Understanding What Makes a Good Showing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vidence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3–9.2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elps student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alyz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ok at the big pictu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search hypothe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ook at different perspectiv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vestigate social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valuate credibilit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rganize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bate controversial issu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corpora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lements of a controversial issue, debatable topic, or moral or ethical dilemm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gaging, thought provoking, and open-ended questions or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pportunities for exploring conflicting eviden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5A30D-9DA9-417C-9A01-0719C1F004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Romeo and Julie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ore the live version of this cas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f time is available, review any additional example projects on your ow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825B-5CC6-4E8A-8B39-DDB84687DC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37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Thinking About Your Uni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9.2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rainstorm Idea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skimming Web sites fo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list of possible top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3D262-1428-4C4B-B329-83B84E408A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80880" y="838080"/>
          <a:ext cx="8610840" cy="4734000"/>
        </p:xfrm>
        <a:graphic>
          <a:graphicData uri="http://schemas.openxmlformats.org/drawingml/2006/table">
            <a:tbl>
              <a:tblPr/>
              <a:tblGrid>
                <a:gridCol w="1833840"/>
                <a:gridCol w="6777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5080" indent="-235080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e a practice </a:t>
                      </a: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eing Reas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usal map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and practice effective questioning techniq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35080" indent="-235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e and receive feedback on project ide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FE77-8529-406A-9FD5-0BA2194FC9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Showing Evid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82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7–9.28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.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uld be a good fit for your unit, you will have the opportunity to try out an idea for a different unit during this module.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DB69-0B43-4F65-BBBD-CFD2CD34A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07876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pt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28–9.30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examples for how to write your 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HelveticaNeue-Light"/>
              </a:rPr>
              <a:t>For more examples, see ideas in Appendix 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380880" y="4824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                 Showing Evidenc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0E05-F7D7-4784-8BBC-08F2641391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79440" y="4870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– Module 9.32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828800"/>
            <a:ext cx="853452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584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  <a:tab algn="l" pos="3543480"/>
                <a:tab algn="l" pos="3657600"/>
                <a:tab algn="l" pos="377208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21A2-EC09-4C71-8977-50BDB8765B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5848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onsidering How Best to Use th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3–9.3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can use one of two usage models as they evaluate claims and evidenc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age Model 1: Create claims and support with evidenc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sage Model 2: Analyze evidence to make a claim or form a hypothesi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4404-8147-40F1-B2F7-21520040E5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a Showing Evidence Project from an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34–9.3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project wizard to copy an existing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Curriculum-Framing Questions, project priorities, and the Project Reflection Checklist, and then edit the project onli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details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Steps 3 through 5 to create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(see next two slide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B29A-FFCB-4490-88E1-B366B6CDAC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760" y="144792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Your Own Project Description 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Promp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36–9.3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Unit Plan template and review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riculum-Framing Questio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priorities on pages 2.20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2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eflection Checklist on page 10.07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ubric on page 2.18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ject Description and Prompt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 your map or type them directly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Thinking Tools, Seeing Reason Tool Resource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der on the Curriculum Resource C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45E4-5F7D-44E1-AAAB-2D5BF2E374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Planning Your Use of Showing Evidenc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8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he following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c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mp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762ff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Seeing Reason Tool Resourc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D65B-46E9-4557-914F-2B438F3157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Creating a New Showing Evidence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8–9.3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nter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er Workspa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your teacher ID and password,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i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Manage Projects section,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t up a new Showing Evidence projec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80880" indent="0">
              <a:spcBef>
                <a:spcPts val="1500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9496E-27E3-4735-A4B8-E5D134F72E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760" y="12952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Teams IDs with the Project Wizar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3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low instructions to use the project wizard to create team I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t least two teams for the practice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 a reviewing team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5e647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ep 7: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reating Specialized Student Team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4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llow instructions to enter team IDs individuall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t least two teams for the practice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-2372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ign a reviewing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38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fter creating team IDs, record your team IDs and password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2900-5A4C-40C9-A538-6B919837997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8: Using the Showing Evidence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5760" y="1371600"/>
          <a:ext cx="8237520" cy="41911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9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69756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search shows that, regardless of grade level or subject, argumentation skills extend learning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argument model used by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onsists of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a claim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valuating the quality of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explicit links between a claim and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viding reasoning for why evidence supports a cla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counterargume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king a conclus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27AC-B741-41CA-BE68-9AF300DAB0A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9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howing Evidence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stand ho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upports the argumentation pro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nd rat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for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DCE6-0661-4B07-9D31-1FE14BCACB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Showing Evidence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effective questioning techniqu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cases and Unit Pl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xperien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5FE3-241B-4603-BDE3-93FFF0A5554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281A-EB8F-48C6-85BF-05DC234A56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80880" y="1066680"/>
          <a:ext cx="8237520" cy="1539720"/>
        </p:xfrm>
        <a:graphic>
          <a:graphicData uri="http://schemas.openxmlformats.org/drawingml/2006/table">
            <a:tbl>
              <a:tblPr/>
              <a:tblGrid>
                <a:gridCol w="1830240"/>
                <a:gridCol w="640728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2942-DE87-45BF-829D-56C1ED819F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9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howing Evidence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667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Review and discuss a unit that integrates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the format of an argument and how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supports the argumentation process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derstand how to review and rate evidence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View and discuss ideas for incorporating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o your unit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266760" indent="-266760">
              <a:lnSpc>
                <a:spcPct val="80000"/>
              </a:lnSpc>
              <a:spcBef>
                <a:spcPts val="11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roject online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841560" cy="47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E84A2-D356-4A1B-A7DD-8618C829E6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onsidering Argumentation in the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1–9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pares students for real-world proble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elps students develop higher-order thinking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reases students’ content knowled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courages thoughtful student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4078-59AE-4FBB-8050-19DB508A8E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Taking a Look at the Format of an Argum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2–9.0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aim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y of 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nks between the claim and eviden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asoning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nterargu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9959-EBC4-43D1-BC57-EC86069F42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Showing Evidence in Ac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ok Closely at Your Showing Evidence Cas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9.04–9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 on the elements of an argument and discuss your initial experience with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nformation would you have liked to know prior to starting your work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what ways did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elp you to refine and evaluate your idea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25E2E-7690-49EA-B135-249E5ED940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9: Using the Showing Evidence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igging Deeper into Argum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Thinking About Your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9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n do your students engage in argumentatio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 what points do they have problems in creating and supporting a clear argu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38194-24AD-42C9-B475-CE10F6F5A2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4-01T18:28:22Z</dcterms:modified>
  <cp:revision>852</cp:revision>
  <dc:subject/>
  <dc:title>Slide 1</dc:title>
</cp:coreProperties>
</file>